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6382B-6392-4818-B7D9-514F27403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7802B-D967-4C54-8293-0CEA19B50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FA603-3F28-4B8C-AFDF-A6687BE44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299C8-CA75-411A-9432-066377614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9B05B5-E14E-487E-87EA-524F82B550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F6FB6-0972-4DA5-81F8-80B40F3EB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58723-C087-4717-99E9-9EEC72C42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534E8-A45F-4327-B0EB-9CC97B490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C66B1-04D9-49EC-8A7E-8832D14A8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397E4-994C-43D3-9F34-4C9D10DD7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485DB-2B8B-457A-B961-CC933D8FF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4DFF9-AF4A-4A02-AD31-A32F8A2CD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F4B7B-3E36-49C2-98C0-E43FDFD5A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B25C0-7217-4E0F-8E55-3D51F67D0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FBEA4-C59A-4841-8527-DCA97A765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07440-F9A4-4BFB-A60C-0EC7ED4287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BD1A0C-B164-4168-97AE-F5829CE987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E8CBF-58F2-4401-9AC5-1591700B5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CED8A-392F-49CB-9184-6E1AA8551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A3C6E-0277-40E0-8BE1-70E54D90E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3FFF9-1D74-406D-B610-D0067A712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12483-4404-45C8-BC64-51F8F6011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71522-424A-4148-8990-66DDA751A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FE414-4DAA-4341-B62F-B3EFAF2FF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9DF2-FF06-41A9-B22F-3D9EEEE5E8DC}"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A699-8D7B-44EB-BFB6-CF661C9DDE29}"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cc"/>
                </a:solidFill>
                <a:latin typeface="Arial"/>
              </a:rPr>
              <a:t>All in the Family</a:t>
            </a:r>
            <a:endParaRPr b="0" lang="en-US" sz="6300" spc="-1" strike="noStrike">
              <a:solidFill>
                <a:srgbClr val="ffffcc"/>
              </a:solidFill>
              <a:latin typeface="Arial"/>
            </a:endParaRPr>
          </a:p>
        </p:txBody>
      </p:sp>
      <p:sp>
        <p:nvSpPr>
          <p:cNvPr id="115" name="PlaceHolder 2"/>
          <p:cNvSpPr>
            <a:spLocks noGrp="1"/>
          </p:cNvSpPr>
          <p:nvPr>
            <p:ph type="subTitle"/>
          </p:nvPr>
        </p:nvSpPr>
        <p:spPr>
          <a:xfrm>
            <a:off x="1752480" y="3428640"/>
            <a:ext cx="6400800" cy="1676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nit Portfolio Presentation</a:t>
            </a:r>
            <a:endParaRPr b="0" lang="en-US" sz="3200" spc="-1" strike="noStrike">
              <a:solidFill>
                <a:srgbClr val="eaeaea"/>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Kathleen Kellner</a:t>
            </a:r>
            <a:endParaRPr b="0" lang="en-US" sz="3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Unit Summary</a:t>
            </a:r>
            <a:endParaRPr b="0" lang="en-US" sz="4400" spc="-1" strike="noStrike">
              <a:solidFill>
                <a:srgbClr val="ffffcc"/>
              </a:solidFill>
              <a:latin typeface="Arial"/>
            </a:endParaRPr>
          </a:p>
        </p:txBody>
      </p:sp>
      <p:sp>
        <p:nvSpPr>
          <p:cNvPr id="117" name=""/>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PlaceHolder 2"/>
          <p:cNvSpPr>
            <a:spLocks noGrp="1"/>
          </p:cNvSpPr>
          <p:nvPr>
            <p:ph/>
          </p:nvPr>
        </p:nvSpPr>
        <p:spPr>
          <a:xfrm>
            <a:off x="1599840" y="1447560"/>
            <a:ext cx="7162920" cy="45306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 this unit, students will engage in a variety of </a:t>
            </a:r>
            <a:r>
              <a:rPr b="0" lang="en-US" sz="2400" spc="-1" strike="noStrike">
                <a:solidFill>
                  <a:srgbClr val="eaeaea"/>
                </a:solidFill>
                <a:latin typeface="Verdana"/>
              </a:rPr>
              <a:t>activities</a:t>
            </a:r>
            <a:r>
              <a:rPr b="0" lang="en-US" sz="2000" spc="-1" strike="noStrike">
                <a:solidFill>
                  <a:srgbClr val="eaeaea"/>
                </a:solidFill>
                <a:latin typeface="Verdana"/>
              </a:rPr>
              <a:t> to discover what is a living and nonliving thing, including how a plant grows and change.  Each student will document on a daily basis how a plant changes and grows in their life cycle diary.  Each group will create its own Movie Maker slideshow on the life cycle of a plant and present it to the class.   They will use their ability to observe, record information, and apply it to telling time and measurement in mathematics. Students will also be responsible for researching and document their life cycle diary. </a:t>
            </a:r>
            <a:endParaRPr b="0" lang="en-US" sz="20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urriculum-Framing Questions</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Essential Question </a:t>
            </a:r>
            <a:br>
              <a:rPr sz="2800"/>
            </a:br>
            <a:r>
              <a:rPr b="1" lang="en-US" sz="2000" spc="-1" strike="noStrike">
                <a:solidFill>
                  <a:srgbClr val="eaeaea"/>
                </a:solidFill>
                <a:latin typeface="Verdana"/>
              </a:rPr>
              <a:t>Are all living things related?</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Unit Questions</a:t>
            </a:r>
            <a:br>
              <a:rPr sz="2800"/>
            </a:br>
            <a:r>
              <a:rPr b="1" lang="en-US" sz="2000" spc="-1" strike="noStrike">
                <a:solidFill>
                  <a:srgbClr val="eaeaea"/>
                </a:solidFill>
                <a:latin typeface="Verdana"/>
              </a:rPr>
              <a:t>What is a living thing?</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What is a nonliving thing?</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What do plants need?</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How do plants grow and change?</a:t>
            </a:r>
            <a:endParaRPr b="0" lang="en-US" sz="20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How can I use technology to document a life cycle?</a:t>
            </a:r>
            <a:r>
              <a:rPr b="0" lang="en-US" sz="2400" spc="-1" strike="noStrike">
                <a:solidFill>
                  <a:srgbClr val="eaeaea"/>
                </a:solidFill>
                <a:latin typeface="Verdana"/>
              </a:rPr>
              <a:t> </a:t>
            </a:r>
            <a:endParaRPr b="0" lang="en-US" sz="24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Content Questions</a:t>
            </a:r>
            <a:endParaRPr b="0" lang="en-US" sz="28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What is the life cycle of a plant?</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What can be used to measure the life cycle of a living thing?</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ife Cycle Project</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1065240"/>
          </a:xfrm>
          <a:prstGeom prst="rect">
            <a:avLst/>
          </a:prstGeom>
          <a:noFill/>
          <a:ln w="0">
            <a:noFill/>
          </a:ln>
        </p:spPr>
        <p:txBody>
          <a:bodyPr lIns="90000" rIns="90000" tIns="46800" bIns="46800" anchor="t">
            <a:normAutofit fontScale="99000"/>
          </a:bodyPr>
          <a:p>
            <a:pPr indent="0">
              <a:spcBef>
                <a:spcPts val="799"/>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s project will help my students develop 21</a:t>
            </a:r>
            <a:r>
              <a:rPr b="0" lang="en-US" sz="3200" spc="-1" strike="noStrike" baseline="30000">
                <a:solidFill>
                  <a:srgbClr val="eaeaea"/>
                </a:solidFill>
                <a:latin typeface="Verdana"/>
              </a:rPr>
              <a:t>st</a:t>
            </a:r>
            <a:r>
              <a:rPr b="0" lang="en-US" sz="3200" spc="-1" strike="noStrike">
                <a:solidFill>
                  <a:srgbClr val="eaeaea"/>
                </a:solidFill>
                <a:latin typeface="Verdana"/>
              </a:rPr>
              <a:t> century skills by:</a:t>
            </a:r>
            <a:endParaRPr b="0" lang="en-US" sz="3200" spc="-1" strike="noStrike">
              <a:solidFill>
                <a:srgbClr val="eaeaea"/>
              </a:solidFill>
              <a:latin typeface="Verdana"/>
            </a:endParaRPr>
          </a:p>
        </p:txBody>
      </p:sp>
      <p:sp>
        <p:nvSpPr>
          <p:cNvPr id="124" name=""/>
          <p:cNvSpPr/>
          <p:nvPr/>
        </p:nvSpPr>
        <p:spPr>
          <a:xfrm>
            <a:off x="1523880" y="2666880"/>
            <a:ext cx="7239240" cy="21132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llaborating with peers.</a:t>
            </a:r>
            <a:endParaRPr b="0" lang="en-US" sz="2400" spc="-1" strike="noStrike">
              <a:solidFill>
                <a:srgbClr val="eaeaea"/>
              </a:solidFill>
              <a:latin typeface="Arial"/>
            </a:endParaRPr>
          </a:p>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alyzing data about lifecycles and being able to present them to a selected audience.</a:t>
            </a:r>
            <a:endParaRPr b="0" lang="en-US" sz="2400" spc="-1" strike="noStrike">
              <a:solidFill>
                <a:srgbClr val="eaeaea"/>
              </a:solidFill>
              <a:latin typeface="Arial"/>
            </a:endParaRPr>
          </a:p>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231840" indent="-231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53960" y="325080"/>
            <a:ext cx="7180560" cy="90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auging Student Needs Assessment</a:t>
            </a:r>
            <a:endParaRPr b="0" lang="en-US" sz="3600" spc="-1" strike="noStrike">
              <a:solidFill>
                <a:srgbClr val="ffffcc"/>
              </a:solidFill>
              <a:latin typeface="Arial"/>
            </a:endParaRPr>
          </a:p>
        </p:txBody>
      </p:sp>
      <p:sp>
        <p:nvSpPr>
          <p:cNvPr id="126" name=""/>
          <p:cNvSpPr/>
          <p:nvPr/>
        </p:nvSpPr>
        <p:spPr>
          <a:xfrm>
            <a:off x="1371600" y="1295280"/>
            <a:ext cx="7162920" cy="558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Purpose of the Assessment</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To gather information about what students already know and what they wonder about life cycles. </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What I want to learn from my students?</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ant to find out what they already know about the Unit Questions and what they know about technology. (Digital Camera  and  Microsoft programs ).</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How I have tried to promote higher-order thinking?</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ill ask students to find relationships and draw conclusions about life cycles.</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How the assessment information helps me and my students plan for upcoming activities in the unit?</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f students have confusion with the technology being used, I can provide more opportunities to practice to become more comfortable with the selected technology. </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What feedback or additional ideas I’d lik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ould like more support with Microsoft Movie Maker. I came across some difficulties that took some time to figure out. That would make me more comfortable for when I need to teach it to 1st graders.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nd ways to get my students more interested in learning scienc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earn about different kinds of technology my students and I can use</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8" name="PlaceHolder 2"/>
          <p:cNvSpPr>
            <a:spLocks noGrp="1"/>
          </p:cNvSpPr>
          <p:nvPr>
            <p:ph type="title"/>
          </p:nvPr>
        </p:nvSpPr>
        <p:spPr>
          <a:xfrm>
            <a:off x="1130040" y="301320"/>
            <a:ext cx="740412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y Goals for the Course</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53960" y="507600"/>
            <a:ext cx="7180560" cy="90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oals for My Students </a:t>
            </a:r>
            <a:endParaRPr b="0" lang="en-US" sz="4400" spc="-1" strike="noStrike">
              <a:solidFill>
                <a:srgbClr val="ffffcc"/>
              </a:solidFill>
              <a:latin typeface="Arial"/>
            </a:endParaRPr>
          </a:p>
        </p:txBody>
      </p:sp>
      <p:sp>
        <p:nvSpPr>
          <p:cNvPr id="130" name="PlaceHolder 2"/>
          <p:cNvSpPr>
            <a:spLocks noGrp="1"/>
          </p:cNvSpPr>
          <p:nvPr>
            <p:ph/>
          </p:nvPr>
        </p:nvSpPr>
        <p:spPr>
          <a:xfrm>
            <a:off x="1371600" y="1905120"/>
            <a:ext cx="72388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ork together to create a movie  presentation appropriate for a selected audience.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ather, analyze, organize, reflect, and process information about the life cycle of a plant.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ake connections between themselves, and the lifecycles of other organisms in our world.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quest for Feedback</a:t>
            </a:r>
            <a:endParaRPr b="0" lang="en-US" sz="44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helping students take more responsibility for their own learning</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other/additional technology resources that could be used in comparison to Microsoft Movie Maker.</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other animals that could be used in our classroom for following a life cycle.</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Kathy Kellner</cp:lastModifiedBy>
  <dcterms:modified xsi:type="dcterms:W3CDTF">2010-08-24T19:18:19Z</dcterms:modified>
  <cp:revision>26</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